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59022-1C06-4EA2-8374-F05B05A3D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6D498-2672-4584-9E4D-29E4315F1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50A47-16C1-4673-8635-FA778CC45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71AAD-9E5D-4467-8377-1FC222866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303BD-E7EE-404F-BFE6-E48C2D582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E8377-E009-444B-A3A7-17F1D47C8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0BA1E-1C89-4A9A-A18A-13C27F7FE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9D176-3093-49A2-9CFE-F54906826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63502-C897-4D70-A946-A54681587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15085-FF19-4459-B72C-54A1CEDE2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B1EEB-3F82-41CE-AD51-EFA257836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59320-89CA-4A73-BA18-5988FC8E4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4CCDC-9EAF-47A3-92E7-760D132D1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D7D2E-2AC7-4545-A59A-C9B4A3891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9C8F2-E37D-4150-A92C-4AFE064D7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C8501-E40F-48B4-B8CC-EE4F9E2E5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7FA43-9360-4F56-AA0D-C21A616F8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CA4C3-91AB-47BC-BFDC-5E2EF9B3B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0E734-9D9D-4890-B03A-B5C559B3B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10C1D-E8A2-439F-A23E-BF14DE7D7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E6407-25CE-46FA-A8FB-54382C18F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35999-43F4-4AD3-9A78-B83CE7AE6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2F3F6-882F-4A74-B437-B283E6739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ADE6A-4A00-408E-B45A-01F225B80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96245-F2D2-4156-9563-705C4BA1327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2ECBF-0DE2-4F67-82A0-0BA4B9BEA28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roblem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990720" y="2437920"/>
            <a:ext cx="64008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ow can they gain enough money for the renovation of their kitche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y are from India and they lack resources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21</a:t>
            </a:r>
            <a:r>
              <a:rPr b="0" lang="en-US" sz="3800" spc="-1" strike="noStrike" baseline="30000">
                <a:solidFill>
                  <a:srgbClr val="000000"/>
                </a:solidFill>
                <a:latin typeface="Verdana"/>
              </a:rPr>
              <a:t>st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 Century Skills</a:t>
            </a:r>
            <a:br>
              <a:rPr sz="3800"/>
            </a:b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66320" y="274320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roblem Identification, Formulation, and Solu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lf-Dir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olu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320" y="274320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y need to provide a program for them to be able to monitor their expens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7T21:17:58Z</dcterms:created>
  <dc:creator>madrid</dc:creator>
  <dc:description/>
  <dc:language>en-US</dc:language>
  <cp:lastModifiedBy>madrid</cp:lastModifiedBy>
  <dcterms:modified xsi:type="dcterms:W3CDTF">2012-06-27T21:59:19Z</dcterms:modified>
  <cp:revision>2</cp:revision>
  <dc:subject/>
  <dc:title>Problem: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7</vt:r8>
  </property>
</Properties>
</file>